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F58-227E-494B-AE96-71F15FB8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902-9E98-4616-B7D1-4FE11693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3B96-D3A3-4925-9656-1B7B70D9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53F4-2BE7-4889-8C44-4EA969AB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86E1-7D7B-4B6C-BBAD-27D1E62F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CCB9-7F78-4B81-A816-9BE5CE76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50DC-48B4-46CB-B764-ED73854D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F0D5-609E-40D1-AC44-B8E004F8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B6AC-DE8F-47E8-90C3-362D890F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1F5E-C79A-42A7-BA91-1F3031D9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E212-7268-43C7-B816-90536411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B03-801F-4D47-83EA-20FAAF1B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32EA-8D99-41AF-AB04-C2753552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7BDD-32CE-4EFF-A7C1-AD3176D2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9B6B-E3AC-435D-A6B3-E6B0A3DF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CCCB-D451-46FC-A4EC-3C1C4226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99AF-82F3-4D86-BB99-78B353EE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93D-6DF3-4A2D-87BF-600C1F58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9F88-5158-4DA6-8E67-02BFE0D4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5EF8-E84B-49F6-8498-E8E00331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90B-9E0B-4104-8E8B-C0BDEC5F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A58-E725-4782-8CB5-28D8DE8A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1D1-7956-423D-8416-B090A7E0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56D-D34A-49D8-8210-7DCE5073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C4B2-23E0-4AFD-9F09-E6611B79BB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7E75-B81E-47C8-83E1-80F04FADD5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opackages.net/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iopackages.ne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ng System Packages for Bioinforma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en D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5.05.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96080" y="60958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705720" y="6095880"/>
            <a:ext cx="838080" cy="615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439120" y="6095880"/>
            <a:ext cx="5526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ee primary fo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se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brow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xtpr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LAT daem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CBI Toolkit (BLAST, et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MM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oper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 &amp; Biocondu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qui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M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 se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&amp; protein seque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quence featu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tolog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installed using a common directory struc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CSC tools (utilities, BLAT system service, CGI script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ioper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 / Bioconduc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MOD apps (Gbrowse, Textpresso, …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 packa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sequence (fa, nib, blastd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ome features (Affy probeset alignments, mRNA, et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MOD Components Avail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38098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380988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brow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38098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pr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1905120"/>
            <a:ext cx="1905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od-web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3809880"/>
            <a:ext cx="1067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rn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2"/>
            <a:endCxn id="143" idx="0"/>
          </p:cNvCxnSpPr>
          <p:nvPr/>
        </p:nvCxnSpPr>
        <p:spPr>
          <a:xfrm>
            <a:off x="4533480" y="2361960"/>
            <a:ext cx="2096280" cy="14482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2" idx="2"/>
            <a:endCxn id="141" idx="0"/>
          </p:cNvCxnSpPr>
          <p:nvPr/>
        </p:nvCxnSpPr>
        <p:spPr>
          <a:xfrm>
            <a:off x="4533480" y="2361960"/>
            <a:ext cx="7246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2" idx="2"/>
            <a:endCxn id="140" idx="0"/>
          </p:cNvCxnSpPr>
          <p:nvPr/>
        </p:nvCxnSpPr>
        <p:spPr>
          <a:xfrm flipH="1">
            <a:off x="3847320" y="2361960"/>
            <a:ext cx="68652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2"/>
            <a:endCxn id="139" idx="0"/>
          </p:cNvCxnSpPr>
          <p:nvPr/>
        </p:nvCxnSpPr>
        <p:spPr>
          <a:xfrm flipH="1">
            <a:off x="2437560" y="2361960"/>
            <a:ext cx="20962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981080" y="449568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39" idx="2"/>
            <a:endCxn id="148" idx="0"/>
          </p:cNvCxnSpPr>
          <p:nvPr/>
        </p:nvCxnSpPr>
        <p:spPr>
          <a:xfrm>
            <a:off x="2437920" y="4266720"/>
            <a:ext cx="10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grpSp>
        <p:nvGrpSpPr>
          <p:cNvPr id="150" name=""/>
          <p:cNvGrpSpPr/>
          <p:nvPr/>
        </p:nvGrpSpPr>
        <p:grpSpPr>
          <a:xfrm>
            <a:off x="1752480" y="1905120"/>
            <a:ext cx="6019920" cy="1904760"/>
            <a:chOff x="1752480" y="1905120"/>
            <a:chExt cx="6019920" cy="1904760"/>
          </a:xfrm>
        </p:grpSpPr>
        <p:sp>
          <p:nvSpPr>
            <p:cNvPr id="151" name=""/>
            <p:cNvSpPr/>
            <p:nvPr/>
          </p:nvSpPr>
          <p:spPr>
            <a:xfrm>
              <a:off x="1752480" y="190512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as2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"/>
            <p:cNvCxnSpPr>
              <a:stCxn id="151" idx="2"/>
              <a:endCxn id="139" idx="0"/>
            </p:cNvCxnSpPr>
            <p:nvPr/>
          </p:nvCxnSpPr>
          <p:spPr>
            <a:xfrm>
              <a:off x="2437920" y="2361960"/>
              <a:ext cx="1080" cy="14482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>
              <a:off x="6400800" y="251460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pollo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3048120"/>
              <a:ext cx="1295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map-H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"/>
            <p:cNvCxnSpPr>
              <a:stCxn id="142" idx="2"/>
              <a:endCxn id="154" idx="1"/>
            </p:cNvCxnSpPr>
            <p:nvPr/>
          </p:nvCxnSpPr>
          <p:spPr>
            <a:xfrm>
              <a:off x="4533840" y="2362320"/>
              <a:ext cx="1867680" cy="91512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42" idx="2"/>
              <a:endCxn id="153" idx="1"/>
            </p:cNvCxnSpPr>
            <p:nvPr/>
          </p:nvCxnSpPr>
          <p:spPr>
            <a:xfrm>
              <a:off x="4533840" y="2362320"/>
              <a:ext cx="1867680" cy="38160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4" idx="1"/>
              <a:endCxn id="139" idx="0"/>
            </p:cNvCxnSpPr>
            <p:nvPr/>
          </p:nvCxnSpPr>
          <p:spPr>
            <a:xfrm flipH="1">
              <a:off x="2437560" y="3276360"/>
              <a:ext cx="3963240" cy="5338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53" idx="1"/>
              <a:endCxn id="139" idx="0"/>
            </p:cNvCxnSpPr>
            <p:nvPr/>
          </p:nvCxnSpPr>
          <p:spPr>
            <a:xfrm flipH="1">
              <a:off x="2437560" y="2742840"/>
              <a:ext cx="3963240" cy="106740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sp>
        <p:nvSpPr>
          <p:cNvPr id="159" name=""/>
          <p:cNvSpPr/>
          <p:nvPr/>
        </p:nvSpPr>
        <p:spPr>
          <a:xfrm>
            <a:off x="609480" y="5383080"/>
            <a:ext cx="79250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sa’ can be substituted for your org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ly built for ‘Cel’, ‘Hsa’, ‘Sc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429000" y="2362320"/>
            <a:ext cx="3581280" cy="2590560"/>
            <a:chOff x="3429000" y="2362320"/>
            <a:chExt cx="3581280" cy="2590560"/>
          </a:xfrm>
        </p:grpSpPr>
        <p:sp>
          <p:nvSpPr>
            <p:cNvPr id="161" name=""/>
            <p:cNvSpPr/>
            <p:nvPr/>
          </p:nvSpPr>
          <p:spPr>
            <a:xfrm>
              <a:off x="5638680" y="449568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ucsc-BL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4495680"/>
              <a:ext cx="20574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enome-Hsa-ni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"/>
            <p:cNvCxnSpPr>
              <a:stCxn id="142" idx="2"/>
              <a:endCxn id="161" idx="0"/>
            </p:cNvCxnSpPr>
            <p:nvPr/>
          </p:nvCxnSpPr>
          <p:spPr>
            <a:xfrm>
              <a:off x="4533840" y="2362320"/>
              <a:ext cx="1791360" cy="21340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42" idx="2"/>
              <a:endCxn id="162" idx="0"/>
            </p:cNvCxnSpPr>
            <p:nvPr/>
          </p:nvCxnSpPr>
          <p:spPr>
            <a:xfrm flipH="1">
              <a:off x="4457160" y="2362320"/>
              <a:ext cx="76680" cy="2134080"/>
            </a:xfrm>
            <a:prstGeom prst="straightConnector1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re detail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30481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6" idx="2"/>
            <a:endCxn id="168" idx="0"/>
          </p:cNvCxnSpPr>
          <p:nvPr/>
        </p:nvCxnSpPr>
        <p:spPr>
          <a:xfrm flipH="1">
            <a:off x="3085560" y="3505320"/>
            <a:ext cx="19116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2438280" y="1905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9" idx="2"/>
            <a:endCxn id="166" idx="0"/>
          </p:cNvCxnSpPr>
          <p:nvPr/>
        </p:nvCxnSpPr>
        <p:spPr>
          <a:xfrm>
            <a:off x="3124080" y="2361960"/>
            <a:ext cx="153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9" idx="2"/>
            <a:endCxn id="170" idx="0"/>
          </p:cNvCxnSpPr>
          <p:nvPr/>
        </p:nvCxnSpPr>
        <p:spPr>
          <a:xfrm>
            <a:off x="3123720" y="2361960"/>
            <a:ext cx="262980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693432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csc-b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5" idx="2"/>
            <a:endCxn id="173" idx="0"/>
          </p:cNvCxnSpPr>
          <p:nvPr/>
        </p:nvCxnSpPr>
        <p:spPr>
          <a:xfrm>
            <a:off x="6057720" y="2971800"/>
            <a:ext cx="152460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350532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go-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66" idx="2"/>
            <a:endCxn id="176" idx="0"/>
          </p:cNvCxnSpPr>
          <p:nvPr/>
        </p:nvCxnSpPr>
        <p:spPr>
          <a:xfrm>
            <a:off x="3276360" y="3504960"/>
            <a:ext cx="10288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962520" y="2514600"/>
            <a:ext cx="419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affyme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5" idx="2"/>
            <a:endCxn id="170" idx="0"/>
          </p:cNvCxnSpPr>
          <p:nvPr/>
        </p:nvCxnSpPr>
        <p:spPr>
          <a:xfrm flipH="1">
            <a:off x="5752440" y="2971800"/>
            <a:ext cx="30564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9" idx="3"/>
            <a:endCxn id="175" idx="0"/>
          </p:cNvCxnSpPr>
          <p:nvPr/>
        </p:nvCxnSpPr>
        <p:spPr>
          <a:xfrm>
            <a:off x="3809520" y="2133720"/>
            <a:ext cx="2248920" cy="3816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5334120" y="1905120"/>
            <a:ext cx="3581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69" idx="3"/>
            <a:endCxn id="180" idx="1"/>
          </p:cNvCxnSpPr>
          <p:nvPr/>
        </p:nvCxnSpPr>
        <p:spPr>
          <a:xfrm>
            <a:off x="3809880" y="2133360"/>
            <a:ext cx="152496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228600" y="3048120"/>
            <a:ext cx="2438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AffxS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69" idx="2"/>
            <a:endCxn id="182" idx="0"/>
          </p:cNvCxnSpPr>
          <p:nvPr/>
        </p:nvCxnSpPr>
        <p:spPr>
          <a:xfrm flipH="1">
            <a:off x="1447560" y="2361960"/>
            <a:ext cx="16768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1981080" y="4343400"/>
            <a:ext cx="2210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03848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66" idx="2"/>
            <a:endCxn id="184" idx="0"/>
          </p:cNvCxnSpPr>
          <p:nvPr/>
        </p:nvCxnSpPr>
        <p:spPr>
          <a:xfrm flipH="1">
            <a:off x="1028520" y="3504960"/>
            <a:ext cx="22485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2819520" y="54100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3" idx="2"/>
            <a:endCxn id="188" idx="0"/>
          </p:cNvCxnSpPr>
          <p:nvPr/>
        </p:nvCxnSpPr>
        <p:spPr>
          <a:xfrm>
            <a:off x="758160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70" idx="2"/>
            <a:endCxn id="190" idx="0"/>
          </p:cNvCxnSpPr>
          <p:nvPr/>
        </p:nvCxnSpPr>
        <p:spPr>
          <a:xfrm>
            <a:off x="575280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68" idx="2"/>
            <a:endCxn id="186" idx="0"/>
          </p:cNvCxnSpPr>
          <p:nvPr/>
        </p:nvCxnSpPr>
        <p:spPr>
          <a:xfrm>
            <a:off x="3085920" y="48002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4" idx="2"/>
            <a:endCxn id="193" idx="0"/>
          </p:cNvCxnSpPr>
          <p:nvPr/>
        </p:nvCxnSpPr>
        <p:spPr>
          <a:xfrm>
            <a:off x="1028520" y="449568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762120" y="54100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54100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76" idx="2"/>
            <a:endCxn id="194" idx="0"/>
          </p:cNvCxnSpPr>
          <p:nvPr/>
        </p:nvCxnSpPr>
        <p:spPr>
          <a:xfrm>
            <a:off x="4304880" y="4191120"/>
            <a:ext cx="10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ne Expression Compon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ocond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464832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43440" y="3390840"/>
            <a:ext cx="1600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nt/N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98" idx="1"/>
            <a:endCxn id="199" idx="3"/>
          </p:cNvCxnSpPr>
          <p:nvPr/>
        </p:nvCxnSpPr>
        <p:spPr>
          <a:xfrm flipH="1">
            <a:off x="5333760" y="487656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200" idx="2"/>
            <a:endCxn id="198" idx="0"/>
          </p:cNvCxnSpPr>
          <p:nvPr/>
        </p:nvCxnSpPr>
        <p:spPr>
          <a:xfrm>
            <a:off x="6543720" y="4152960"/>
            <a:ext cx="1008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048120" y="353376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G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3" idx="2"/>
            <a:endCxn id="197" idx="0"/>
          </p:cNvCxnSpPr>
          <p:nvPr/>
        </p:nvCxnSpPr>
        <p:spPr>
          <a:xfrm>
            <a:off x="3733560" y="3990960"/>
            <a:ext cx="1080" cy="658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203" idx="3"/>
            <a:endCxn id="200" idx="1"/>
          </p:cNvCxnSpPr>
          <p:nvPr/>
        </p:nvCxnSpPr>
        <p:spPr>
          <a:xfrm>
            <a:off x="4419360" y="3762000"/>
            <a:ext cx="132444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2924280" y="1828800"/>
            <a:ext cx="16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S/2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typ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eC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6" idx="2"/>
            <a:endCxn id="203" idx="0"/>
          </p:cNvCxnSpPr>
          <p:nvPr/>
        </p:nvCxnSpPr>
        <p:spPr>
          <a:xfrm>
            <a:off x="3723840" y="2971440"/>
            <a:ext cx="10440" cy="5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7" idx="2"/>
          </p:cNvCxnSpPr>
          <p:nvPr/>
        </p:nvCxnSpPr>
        <p:spPr>
          <a:xfrm>
            <a:off x="3733560" y="5105160"/>
            <a:ext cx="108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197" idx="2"/>
          </p:cNvCxnSpPr>
          <p:nvPr/>
        </p:nvCxnSpPr>
        <p:spPr>
          <a:xfrm flipH="1">
            <a:off x="3123720" y="5105160"/>
            <a:ext cx="610560" cy="144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197" idx="2"/>
          </p:cNvCxnSpPr>
          <p:nvPr/>
        </p:nvCxnSpPr>
        <p:spPr>
          <a:xfrm>
            <a:off x="3733560" y="5105520"/>
            <a:ext cx="611640" cy="141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biopackages.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~1000 RPMs for Fedora Core 2,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le via yu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ee site for a configuration exampl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port more architec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for Cygwin &amp; OS X.  RPM has been ported to bo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mate package build proce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farm of multiple architectures, controllable via scheduler (GridEng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mate (if possible) inclusion of new software / data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s a packag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ftware, config files, documentation, and/or data encapsulated in a single fi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tadata describ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sion, license, package “category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the package prov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O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 community interest and involv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ep adding more packages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ep existing packages curren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knowledge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trick Al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ared Fo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rian O’Conn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dd Harr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coln Ste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ley Nels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atomy of a specfi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pen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d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lo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ild &amp; install script hoo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re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buil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insta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o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pre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MOD target audi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mall MO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ckage Dependency Grap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the package prov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0481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6" idx="2"/>
            <a:endCxn id="98" idx="0"/>
          </p:cNvCxnSpPr>
          <p:nvPr/>
        </p:nvCxnSpPr>
        <p:spPr>
          <a:xfrm flipH="1">
            <a:off x="2704680" y="3505320"/>
            <a:ext cx="5724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2438280" y="19051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do-H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434340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n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9" idx="2"/>
            <a:endCxn id="96" idx="0"/>
          </p:cNvCxnSpPr>
          <p:nvPr/>
        </p:nvCxnSpPr>
        <p:spPr>
          <a:xfrm>
            <a:off x="3124080" y="2361960"/>
            <a:ext cx="1533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9" idx="2"/>
            <a:endCxn id="100" idx="0"/>
          </p:cNvCxnSpPr>
          <p:nvPr/>
        </p:nvCxnSpPr>
        <p:spPr>
          <a:xfrm>
            <a:off x="3123720" y="2361960"/>
            <a:ext cx="2629800" cy="198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693432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csc-b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2"/>
            <a:endCxn id="103" idx="0"/>
          </p:cNvCxnSpPr>
          <p:nvPr/>
        </p:nvCxnSpPr>
        <p:spPr>
          <a:xfrm>
            <a:off x="6057720" y="2971800"/>
            <a:ext cx="152460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6" idx="2"/>
            <a:endCxn id="107" idx="0"/>
          </p:cNvCxnSpPr>
          <p:nvPr/>
        </p:nvCxnSpPr>
        <p:spPr>
          <a:xfrm>
            <a:off x="3276360" y="3504960"/>
            <a:ext cx="724680" cy="2293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3962520" y="2514600"/>
            <a:ext cx="419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affyme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5" idx="2"/>
            <a:endCxn id="100" idx="0"/>
          </p:cNvCxnSpPr>
          <p:nvPr/>
        </p:nvCxnSpPr>
        <p:spPr>
          <a:xfrm flipH="1">
            <a:off x="5752440" y="2971800"/>
            <a:ext cx="305640" cy="1372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9" idx="3"/>
            <a:endCxn id="105" idx="0"/>
          </p:cNvCxnSpPr>
          <p:nvPr/>
        </p:nvCxnSpPr>
        <p:spPr>
          <a:xfrm>
            <a:off x="3809520" y="2133720"/>
            <a:ext cx="2248920" cy="3816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5334120" y="1905120"/>
            <a:ext cx="3581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nome-Hsa-annotation-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99" idx="3"/>
            <a:endCxn id="110" idx="1"/>
          </p:cNvCxnSpPr>
          <p:nvPr/>
        </p:nvCxnSpPr>
        <p:spPr>
          <a:xfrm>
            <a:off x="3809880" y="2133360"/>
            <a:ext cx="1524960" cy="108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228600" y="2514600"/>
            <a:ext cx="2438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AffxS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9" idx="2"/>
            <a:endCxn id="112" idx="0"/>
          </p:cNvCxnSpPr>
          <p:nvPr/>
        </p:nvCxnSpPr>
        <p:spPr>
          <a:xfrm flipH="1">
            <a:off x="1447560" y="2361960"/>
            <a:ext cx="1676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600200" y="4343400"/>
            <a:ext cx="2209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tgresql-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bio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96" idx="2"/>
            <a:endCxn id="114" idx="0"/>
          </p:cNvCxnSpPr>
          <p:nvPr/>
        </p:nvCxnSpPr>
        <p:spPr>
          <a:xfrm flipH="1">
            <a:off x="1256760" y="3504960"/>
            <a:ext cx="20199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4114800" y="4876920"/>
            <a:ext cx="1219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o-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96" idx="2"/>
            <a:endCxn id="116" idx="0"/>
          </p:cNvCxnSpPr>
          <p:nvPr/>
        </p:nvCxnSpPr>
        <p:spPr>
          <a:xfrm>
            <a:off x="3276360" y="3505320"/>
            <a:ext cx="14482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200400" y="3733920"/>
            <a:ext cx="1600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l-go-p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pendenc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 Depend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ation Depend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 is a Package Manager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ols to manage installation, upgrade, uninstallation of packa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ify package integrity (checksum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intain system integr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ransaction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low rollback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y chec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pendency graph recur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ow software customization (patch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urrent Generation of P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P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pk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mer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gz/bz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ndows Instal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y bioinformatics package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ency of installation pro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ioinfo. package installs vary wildly, and commonly lack documen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matic dependency install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erl modules especially bad – bioperl has 60+ modules in its dependency tre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grity/Auditing of system st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 an installed package works, which version, how to replicate system set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ghter integration with operating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emons, config &amp; log file location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hat’s availabl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PM packages only right no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imary focus on Fedora Core 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ome RPMs also available f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dora Core 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Hat 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ygw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1:13:05Z</dcterms:created>
  <dc:creator>aday</dc:creator>
  <dc:description/>
  <dc:language>en-US</dc:language>
  <cp:lastModifiedBy>Scott Cain</cp:lastModifiedBy>
  <dcterms:modified xsi:type="dcterms:W3CDTF">2005-05-17T21:40:32Z</dcterms:modified>
  <cp:revision>37</cp:revision>
  <dc:subject/>
  <dc:title>Slide 1</dc:title>
</cp:coreProperties>
</file>